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744-2364-4C3E-B5D6-3F125006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638-9A6F-4F55-BF8C-79B04F81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209-A58D-4AC0-8657-B084DFC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325-A5ED-4BDE-8460-9DD08B00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E59-8001-49DD-8B3A-EDDB64AF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491-F193-4842-9753-305EE38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F5F-8995-4AD3-9E6B-6EC85744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F92-4F3E-4CEF-8BE7-8F647264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C22-05AA-4B71-ACF8-FB5F5151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203-A0B9-4CDD-B756-5A84E5FA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361-6270-4BA7-9760-CBA1D25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016-2306-40BB-8A9F-7A0BB3F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10F7-961D-43BA-A937-3895BECC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often like to write about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begin writ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your 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se painting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of these paintings if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use it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tor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898560"/>
            <a:ext cx="4267440" cy="258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335268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6720" y="22860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feel when you look at 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tive 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of these images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could you beg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paintings would you choose as a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 you add to the paint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r story? (For example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258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335268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276720"/>
            <a:ext cx="2209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F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Herb Jackson, American, born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acrylic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8” x 60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3276720"/>
            <a:ext cx="23623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 White Clouds, Mooselookmegunti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John Beerma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, Born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30” x 5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640" y="533412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2971800" cy="1797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2362320" cy="180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438280" cy="181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324480" y="3200400"/>
            <a:ext cx="2438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Opid, Fra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Anthony Thi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1.25 “ x 15.25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imaginative narrative, story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:  weather, climate,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texture, space, light, shape, line, art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54320" cy="245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37212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360" y="4343400"/>
            <a:ext cx="846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(show) an outdo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without people, buildings, or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c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say landscapes make them feel calm, relax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eac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7498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648320" cy="2811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3886200" cy="297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380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inting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just about the outdoors are cal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ndscap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6680" y="3962520"/>
            <a:ext cx="288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442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3640" y="4952880"/>
            <a:ext cx="845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story, a painting may hav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tell the main id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tle would you give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chose that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191280" cy="473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6520" y="533412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nother artist’s painting of the s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tle would you choose for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your title is a good one for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86200" cy="235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312444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0840" y="228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compare and contrast these two pain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4480" y="3657600"/>
            <a:ext cx="47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in each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800600" cy="290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30492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seen a sky that looked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86200"/>
            <a:ext cx="866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t be when the sky looks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lues that tell the time of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like?  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m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, summer, spring or f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 Why do think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267080" cy="326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7160" y="22860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the sky look like this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2670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he artist has done in this painting t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viewer to pay att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 you think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artist chose to paint the sky this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47:15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